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8583-D33C-468A-BEB8-0218322CE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7BA9-7748-455C-9F54-B85D29415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E8A-DB53-4D94-8FA2-48A0FD2A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F0D-A98D-43E3-8A3F-F43F92BC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4F0-5D09-4B8C-B7C0-133BB79B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11B-B5EA-47BB-8FA6-335D7B60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9D5-5500-4AF7-98F0-0C59A190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6E3-9E46-4513-AD42-844A3F2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F64-DD59-4374-B3F4-26992CF9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5E9-0693-4D22-AED6-BC4F527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B92-C975-4018-BAA4-499AE108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2AB-B98B-498B-BC63-AEDC0E34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B7E-DD4A-42D6-AE5D-29CBE0D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9ED-F160-4618-A217-35418140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69FE-B220-4B48-909D-8416B4000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43240" y="914040"/>
            <a:ext cx="25146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 and effect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bagjoke.jpg"/>
          <p:cNvPicPr/>
          <p:nvPr/>
        </p:nvPicPr>
        <p:blipFill>
          <a:blip r:embed="rId1"/>
          <a:stretch/>
        </p:blipFill>
        <p:spPr>
          <a:xfrm>
            <a:off x="0" y="152280"/>
            <a:ext cx="565164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762120" y="380880"/>
            <a:ext cx="8001000" cy="71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ment.  Select a prompt and develop a flow chart of the causes /eff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ple pro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can power test a person’s character?  What Is the effect of power on a person’s charac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 of a parent, teacher, or friend on your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cramming for an exa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peer pres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ome students ch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growing up with a personal compu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poverty on an individ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one college course is more rewarding than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many people don't bother to vote in local el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racial, sexual, or religious discri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peopl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people keep p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computers on our everyday l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ome people choose not to carry a cell ph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vironmental effects of bottled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reality shows are so pop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304920" y="533520"/>
            <a:ext cx="883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pressures on students to get good gr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a coach or teammate on your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not keeping a personal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o few students read newspa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baseball is no longer the national pas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stress on students in high school or colle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moving to a new town or 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growing numbers of people shop on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the steady increase in the cost of going to colle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tudents drop out of high school or colle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some roommates don't get alo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many teenagers run away from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fluence of a book or a movie on your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ffects of music downloading on the music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1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321760" cy="5749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90720" y="228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 practice on sentence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iagram 1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371600" y="5335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 begin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iagram 2" descr=""/>
          <p:cNvPicPr/>
          <p:nvPr/>
        </p:nvPicPr>
        <p:blipFill>
          <a:blip r:embed="rId1"/>
          <a:stretch/>
        </p:blipFill>
        <p:spPr>
          <a:xfrm>
            <a:off x="1139760" y="725400"/>
            <a:ext cx="6566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auseEffect.gif"/>
          <p:cNvPicPr/>
          <p:nvPr/>
        </p:nvPicPr>
        <p:blipFill>
          <a:blip r:embed="rId1"/>
          <a:stretch/>
        </p:blipFill>
        <p:spPr>
          <a:xfrm>
            <a:off x="685800" y="1066680"/>
            <a:ext cx="780408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1504800" y="987480"/>
            <a:ext cx="7658280" cy="5877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905120" y="380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s for cause and effect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143000" y="533520"/>
            <a:ext cx="723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aragraph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a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ebat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pic sentence.  Without debate or controversy, you will hit a wall when trying to elaborate on a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must be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details from your own experien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bservations, and other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detail must be accompanied by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elaboration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know as commentary, opinion and analysi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methods of development may be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609480" y="38088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 favorite teacher and complete this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./Mrs. __________ is a _____________teac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029200" y="2743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ba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09480" y="403848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this with one or two sentences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pin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how that detail shows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u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topic senten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our opinion sentences to show me it’s opinion.  (don’t do this on the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152280" y="762120"/>
            <a:ext cx="92966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graph 1 Intro (3 sentences, no more than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e EVENT to be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ny necessary background information about th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 statement (sets up the outline or structure for the pa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“ Three effects of … on 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6" descr=""/>
          <p:cNvPicPr/>
          <p:nvPr/>
        </p:nvPicPr>
        <p:blipFill>
          <a:blip r:embed="rId1"/>
          <a:stretch/>
        </p:blipFill>
        <p:spPr>
          <a:xfrm>
            <a:off x="6095880" y="3828960"/>
            <a:ext cx="3078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438120" y="225360"/>
            <a:ext cx="8278920" cy="5907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114800" y="56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33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ragraph 2 Body (4-6 sentences)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sentence that identifies the first effect of the eve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2-3 sentences of detail or explanation about the effec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itional sentence using a cause/effect transition word from t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Rectangle 4" descr=""/>
          <p:cNvPicPr/>
          <p:nvPr/>
        </p:nvPicPr>
        <p:blipFill>
          <a:blip r:embed="rId1"/>
          <a:stretch/>
        </p:blipFill>
        <p:spPr>
          <a:xfrm>
            <a:off x="3780000" y="3090960"/>
            <a:ext cx="491940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ragraph 3 Body (4-6 sentences)</a:t>
            </a:r>
            <a:br>
              <a:rPr sz="3200"/>
            </a:b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sentence that identifies the second effect of the even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2-3 sentences of detail or explanation about the effec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tional sentence using another (different)  cause/effect transition word from the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3986280" y="4889520"/>
            <a:ext cx="45972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457200" y="60948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graph 4 Body (4-6 sentences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entence that identifies the third effect of the even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2-3 sentences of detail or explanation about the effec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al sentence using different cause/effect transition word from the l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4" descr=""/>
          <p:cNvPicPr/>
          <p:nvPr/>
        </p:nvPicPr>
        <p:blipFill>
          <a:blip r:embed="rId1"/>
          <a:stretch/>
        </p:blipFill>
        <p:spPr>
          <a:xfrm>
            <a:off x="6729480" y="5346720"/>
            <a:ext cx="223848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685800" y="457200"/>
            <a:ext cx="815328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5 - Concluding paragraph (2-3 sent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te your thesis but use different words (do not copy word for 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following ways to END your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Admonition or 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reader can do about the iss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</a:rPr>
              <a:t>Predic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sight into how the future might be different, better or w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trong, punched stat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haps a one-sentence paragraph with powerful mea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Anecdo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rief history that reiterates the essence of the issue or situa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ointed question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s the reader th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Echo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s back to the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5" descr=""/>
          <p:cNvPicPr/>
          <p:nvPr/>
        </p:nvPicPr>
        <p:blipFill>
          <a:blip r:embed="rId1"/>
          <a:stretch/>
        </p:blipFill>
        <p:spPr>
          <a:xfrm>
            <a:off x="5278320" y="1835280"/>
            <a:ext cx="3329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715000" y="685800"/>
            <a:ext cx="281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usal essay form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PavlovFreudCartoon.jpg"/>
          <p:cNvPicPr/>
          <p:nvPr/>
        </p:nvPicPr>
        <p:blipFill>
          <a:blip r:embed="rId1"/>
          <a:stretch/>
        </p:blipFill>
        <p:spPr>
          <a:xfrm>
            <a:off x="457200" y="304920"/>
            <a:ext cx="487692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304920" y="2286000"/>
            <a:ext cx="84582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1 Intro (3 sentences, no more than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the EVENT to be discu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any necessary background information about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is statement (sets up the outline or structure for the p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“ There are many causes of 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2060640" y="695160"/>
            <a:ext cx="50227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2286000"/>
            <a:ext cx="80773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agraph 2 Body (4-6 sent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sentence that identifies the first cause of the even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2-3 sentences of detail or explanation about the caus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al sentence using a cause/effect transition word from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3754440" y="506520"/>
            <a:ext cx="3262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80880" y="1674720"/>
            <a:ext cx="838224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3 Body (4-6 sentences)</a:t>
            </a:r>
            <a:br>
              <a:rPr sz="2000"/>
            </a:b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sentence that identifies the second cause of the even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2-3 sentences of detail or explanation about the cau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al sentence using another (different)  cause/effect transition word from the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3754440" y="506520"/>
            <a:ext cx="3262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57200" y="199692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4 Body (4-6 sentences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sentence that identifies the third cause of the even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2-3 sentences of detail or explanation about the cau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al sentence using different cause/effect transition word from the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3754440" y="506520"/>
            <a:ext cx="3262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228600" y="228600"/>
            <a:ext cx="89154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graph 5 - Concluding paragraph (2-3 sent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te your thesis but use different words (do not copy word for 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following ways to END your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Admonition or 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reader can do about the iss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</a:rPr>
              <a:t>Predic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sight into how the future might be different, better or w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trong, punched stat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haps a one-sentence paragraph with powerful mea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Anecdo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rief history that reiterates the essence of the issue or sit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ointed question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s the reader th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Echo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s back to the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6960"/>
            <a:ext cx="8375760" cy="4535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733920" y="4648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33520" y="4648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ibutory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629400" y="464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Diagram 1" descr=""/>
          <p:cNvPicPr/>
          <p:nvPr/>
        </p:nvPicPr>
        <p:blipFill>
          <a:blip r:embed="rId1"/>
          <a:stretch/>
        </p:blipFill>
        <p:spPr>
          <a:xfrm>
            <a:off x="115920" y="365040"/>
            <a:ext cx="9058320" cy="6201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429000" y="5257800"/>
            <a:ext cx="5715000" cy="6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alter’s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g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defines him.  His inability to tolerat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y other emo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auses him to be cruel to his fam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378000" y="146160"/>
            <a:ext cx="8315280" cy="5986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6095880" y="4572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0481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mediat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648320" y="1981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in of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26776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ause and effect ess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important to as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W not 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ause and effect 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It makes clear the causes or effects of the situation you are discuss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54061"/>
                </a:solidFill>
                <a:latin typeface="Calibri"/>
              </a:rPr>
              <a:t>It tells your position on the relative importance of the ca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 makes clear the order in which you will discuss the causes or effec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560" y="19047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en deciding to cheat most students do not seriously consider effects like getting the wrong answers, losing a teacher’s trust, and compromising academic hon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657600" y="4800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ple thesis for cause and effect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iagram 1" descr=""/>
          <p:cNvPicPr/>
          <p:nvPr/>
        </p:nvPicPr>
        <p:blipFill>
          <a:blip r:embed="rId1"/>
          <a:stretch/>
        </p:blipFill>
        <p:spPr>
          <a:xfrm>
            <a:off x="652320" y="1200240"/>
            <a:ext cx="8126640" cy="4103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80880" y="55627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ocus on HOW….not w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743200" y="304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ze your cause and effect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26:18Z</dcterms:created>
  <dc:creator>adamscp</dc:creator>
  <dc:description/>
  <dc:language>en-US</dc:language>
  <cp:lastModifiedBy>adamscp</cp:lastModifiedBy>
  <dcterms:modified xsi:type="dcterms:W3CDTF">2008-02-26T15:33:06Z</dcterms:modified>
  <cp:revision>31</cp:revision>
  <dc:subject/>
  <dc:title>Cause and effect essays</dc:title>
</cp:coreProperties>
</file>